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F849-2354-4656-B3EB-58F9A15DC21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F532-85A3-4659-95BB-F2487552924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96E7-61CE-46FC-B7AC-EDBF1B0DF83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8465-BDBC-4D9C-8094-FE54DAD4C41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CC5B-BA4C-44D9-BF11-9C2689E58EB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B445-6A16-4109-9DBF-598D1A7DA61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84FF-B580-4F2F-BC72-246BF8ED108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0972-C6B4-4071-BD8B-011583A71AE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F4F8-A385-4152-83A8-E12587B2CAB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D2BF-1722-4AD5-824B-46658B94F01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9A0FC-941A-42B8-93A9-F0D4CFD6A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A4002-D406-49FD-A72A-C646CE269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F14B5-DDBE-4C72-AA8C-6607D88AE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E1842-0664-4A91-9747-810B81129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00714-DB7C-4D4A-AE7A-8037936D9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E022F-8075-4FC8-83C1-2E529A1F7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8E2EE-7C61-40FC-86A2-2195CC17F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9C447-B3C4-4CF3-A860-4A49BC248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D2505-0432-4095-9EEF-1FEC6676B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27CD-6B50-4354-B615-42F466CA3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31137-BC34-4384-AE3C-E51A4EDC8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BC6D3-EBA6-4614-9BC8-FF8E75B57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3617-9197-4E54-924C-EC4A28823C4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4-05-26T13:51:19Z</dcterms:modified>
  <cp:revision>26</cp:revision>
  <dc:subject/>
  <dc:title>Countries</dc:title>
</cp:coreProperties>
</file>